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2BE9-3748-4310-B831-C7899F1DD6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28E-9021-47E2-850C-372199AF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EA1-CEC2-4BB8-B44F-B80A4DCE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A4B-A3DC-4858-BA56-1EEEA3F5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2D3-23E1-4FED-95FC-381A028A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7A1-F336-45EB-920C-0FE01C3A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E1A-7C40-4274-8558-8D205595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0F5-8380-46F7-8396-F9F91A11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28C-387C-4910-BD28-CAE4DFF3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2A65-F379-4AB3-98BA-14AFB94D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AB6-751E-4E3D-B818-69D1DBF3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A23-B8CC-4391-B4E4-F7552C7F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94D-309F-4CEA-8132-DEB0086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0A6-6CE7-462B-9012-98D37E9255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Arial"/>
              </a:rPr>
              <a:t>S.MORRI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40" y="6324480"/>
            <a:ext cx="36615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This Powerpoint is hosted on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11640" y="4076640"/>
            <a:ext cx="3384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68360" y="1413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348000" y="148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34800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067280" y="364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0" y="51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314172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413000"/>
            <a:ext cx="806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here are two ways to represent the atomic structure of an element or comp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740720" y="44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667640" y="5445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7667640" y="429264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508720" y="4508280"/>
            <a:ext cx="187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Dot &amp; Cross diagrams elements and compounds are represented by Dots or Crosse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Dot &amp; Cross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RomaK</cp:lastModifiedBy>
  <dcterms:modified xsi:type="dcterms:W3CDTF">2015-09-01T16:15:17Z</dcterms:modified>
  <cp:revision>27</cp:revision>
  <dc:subject/>
  <dc:title>Atomic structure</dc:title>
</cp:coreProperties>
</file>